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7491413" cy="106553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7272-2FB2-4095-8788-A9CFA31C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4400" y="426600"/>
            <a:ext cx="6740280" cy="17766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ctr">
            <a:noAutofit/>
          </a:bodyPr>
          <a:p>
            <a:pPr indent="0" algn="ctr" rtl="1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4400" y="2485800"/>
            <a:ext cx="6740280" cy="335448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 algn="r" rtl="1">
              <a:spcBef>
                <a:spcPts val="901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4400" y="6159240"/>
            <a:ext cx="6740280" cy="335448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 algn="r" rtl="1">
              <a:spcBef>
                <a:spcPts val="901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0F34-C522-4941-8107-64BAA6D4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4400" y="426600"/>
            <a:ext cx="6740280" cy="17766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ctr">
            <a:noAutofit/>
          </a:bodyPr>
          <a:p>
            <a:pPr indent="0" algn="ctr" rtl="1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4400" y="2485800"/>
            <a:ext cx="3288960" cy="335448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 algn="r" rtl="1">
              <a:spcBef>
                <a:spcPts val="901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28240" y="2485800"/>
            <a:ext cx="3288960" cy="335448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 algn="r" rtl="1">
              <a:spcBef>
                <a:spcPts val="901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4400" y="6159240"/>
            <a:ext cx="3288960" cy="335448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 algn="r" rtl="1">
              <a:spcBef>
                <a:spcPts val="901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28240" y="6159240"/>
            <a:ext cx="3288960" cy="335448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 algn="r" rtl="1">
              <a:spcBef>
                <a:spcPts val="901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7F19-E96B-470D-8111-49EF8E7F0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4400" y="426600"/>
            <a:ext cx="6740280" cy="17766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ctr">
            <a:noAutofit/>
          </a:bodyPr>
          <a:p>
            <a:pPr indent="0" algn="ctr" rtl="1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4400" y="2485800"/>
            <a:ext cx="2170080" cy="335448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 algn="r" rtl="1">
              <a:spcBef>
                <a:spcPts val="901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3200" y="2485800"/>
            <a:ext cx="2170080" cy="335448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 algn="r" rtl="1">
              <a:spcBef>
                <a:spcPts val="901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32360" y="2485800"/>
            <a:ext cx="2170080" cy="335448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 algn="r" rtl="1">
              <a:spcBef>
                <a:spcPts val="901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4400" y="6159240"/>
            <a:ext cx="2170080" cy="335448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 algn="r" rtl="1">
              <a:spcBef>
                <a:spcPts val="901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3200" y="6159240"/>
            <a:ext cx="2170080" cy="335448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 algn="r" rtl="1">
              <a:spcBef>
                <a:spcPts val="901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32360" y="6159240"/>
            <a:ext cx="2170080" cy="335448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 algn="r" rtl="1">
              <a:spcBef>
                <a:spcPts val="901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F1F1-28C1-4331-B038-0A1E01BD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4400" y="426600"/>
            <a:ext cx="6740280" cy="17766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ctr">
            <a:noAutofit/>
          </a:bodyPr>
          <a:p>
            <a:pPr indent="0" algn="ctr" rtl="1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4400" y="2485800"/>
            <a:ext cx="6740280" cy="70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6225-4A3E-4EB2-BEDA-7A193D7E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4400" y="426600"/>
            <a:ext cx="6740280" cy="17766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ctr">
            <a:noAutofit/>
          </a:bodyPr>
          <a:p>
            <a:pPr indent="0" algn="ctr" rtl="1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4400" y="2485800"/>
            <a:ext cx="6740280" cy="70326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 algn="r" rtl="1">
              <a:spcBef>
                <a:spcPts val="901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E156-1309-4D84-86A5-195DEA1F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4400" y="426600"/>
            <a:ext cx="6740280" cy="17766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ctr">
            <a:noAutofit/>
          </a:bodyPr>
          <a:p>
            <a:pPr indent="0" algn="ctr" rtl="1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4400" y="2485800"/>
            <a:ext cx="3288960" cy="70326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 algn="r" rtl="1">
              <a:spcBef>
                <a:spcPts val="901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28240" y="2485800"/>
            <a:ext cx="3288960" cy="70326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 algn="r" rtl="1">
              <a:spcBef>
                <a:spcPts val="901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21CF-C7E1-4449-A502-A1C38A7A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4400" y="426600"/>
            <a:ext cx="6740280" cy="17766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ctr">
            <a:noAutofit/>
          </a:bodyPr>
          <a:p>
            <a:pPr indent="0" algn="ctr" rtl="1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F777-5E67-4FA5-B1E5-5E492BF5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4400" y="426600"/>
            <a:ext cx="6740280" cy="82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3B23-7756-4046-97C0-06FC57FB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4400" y="426600"/>
            <a:ext cx="6740280" cy="17766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ctr">
            <a:noAutofit/>
          </a:bodyPr>
          <a:p>
            <a:pPr indent="0" algn="ctr" rtl="1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4400" y="2485800"/>
            <a:ext cx="3288960" cy="335448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 algn="r" rtl="1">
              <a:spcBef>
                <a:spcPts val="901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28240" y="2485800"/>
            <a:ext cx="3288960" cy="70326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 algn="r" rtl="1">
              <a:spcBef>
                <a:spcPts val="901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4400" y="6159240"/>
            <a:ext cx="3288960" cy="335448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 algn="r" rtl="1">
              <a:spcBef>
                <a:spcPts val="901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3E1E-A57C-400D-AB65-A82BEACD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4400" y="426600"/>
            <a:ext cx="6740280" cy="17766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ctr">
            <a:noAutofit/>
          </a:bodyPr>
          <a:p>
            <a:pPr indent="0" algn="ctr" rtl="1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4400" y="2485800"/>
            <a:ext cx="3288960" cy="70326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 algn="r" rtl="1">
              <a:spcBef>
                <a:spcPts val="901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28240" y="2485800"/>
            <a:ext cx="3288960" cy="335448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 algn="r" rtl="1">
              <a:spcBef>
                <a:spcPts val="901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28240" y="6159240"/>
            <a:ext cx="3288960" cy="335448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 algn="r" rtl="1">
              <a:spcBef>
                <a:spcPts val="901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169F-18B6-4D15-A70D-500BD05E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4400" y="426600"/>
            <a:ext cx="6740280" cy="17766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ctr">
            <a:noAutofit/>
          </a:bodyPr>
          <a:p>
            <a:pPr indent="0" algn="ctr" rtl="1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4400" y="2485800"/>
            <a:ext cx="3288960" cy="335448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 algn="r" rtl="1">
              <a:spcBef>
                <a:spcPts val="901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28240" y="2485800"/>
            <a:ext cx="3288960" cy="335448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 algn="r" rtl="1">
              <a:spcBef>
                <a:spcPts val="901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4400" y="6159240"/>
            <a:ext cx="6740280" cy="335448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 algn="r" rtl="1">
              <a:spcBef>
                <a:spcPts val="901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8252-7A43-43A5-ABA3-DD1F7C03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4400" y="426600"/>
            <a:ext cx="6740280" cy="17766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ctr">
            <a:noAutofit/>
          </a:bodyPr>
          <a:p>
            <a:pPr indent="0" algn="ctr" rtl="1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400" y="2485800"/>
            <a:ext cx="6740280" cy="70326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marL="388800" indent="-38880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324000" algn="r" rtl="1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584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14400" indent="-258480" algn="r" rtl="1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33520" indent="-260280" algn="r" rtl="1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33520" indent="-260280" algn="r" rtl="1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33520" indent="-260280" algn="r" rtl="1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66880" y="9704160"/>
            <a:ext cx="1747800" cy="7398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58520" y="9704160"/>
            <a:ext cx="2372040" cy="7398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74400" y="9704160"/>
            <a:ext cx="1747800" cy="7398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CBC2-B66D-463E-BF80-1689AE571BD4}" type="slidenum">
              <a:rPr b="0" lang="he-I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אישים-גולדה מאיר 2"/>
          <p:cNvPicPr/>
          <p:nvPr/>
        </p:nvPicPr>
        <p:blipFill>
          <a:blip r:embed="rId1"/>
          <a:stretch/>
        </p:blipFill>
        <p:spPr>
          <a:xfrm>
            <a:off x="0" y="0"/>
            <a:ext cx="4808520" cy="717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גולדה על שטר"/>
          <p:cNvPicPr/>
          <p:nvPr/>
        </p:nvPicPr>
        <p:blipFill>
          <a:blip r:embed="rId2"/>
          <a:stretch/>
        </p:blipFill>
        <p:spPr>
          <a:xfrm>
            <a:off x="0" y="7175520"/>
            <a:ext cx="6211800" cy="348120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4897440" y="431640"/>
            <a:ext cx="259236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גולדה מאיר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Kaplan_eliezer"/>
          <p:cNvPicPr/>
          <p:nvPr/>
        </p:nvPicPr>
        <p:blipFill>
          <a:blip r:embed="rId1"/>
          <a:stretch/>
        </p:blipFill>
        <p:spPr>
          <a:xfrm>
            <a:off x="0" y="0"/>
            <a:ext cx="7489800" cy="10656720"/>
          </a:xfrm>
          <a:prstGeom prst="rect">
            <a:avLst/>
          </a:prstGeom>
          <a:ln w="0">
            <a:noFill/>
          </a:ln>
        </p:spPr>
      </p:pic>
      <p:sp>
        <p:nvSpPr>
          <p:cNvPr id="65" name="WordArt 6"/>
          <p:cNvSpPr txBox="1"/>
          <p:nvPr/>
        </p:nvSpPr>
        <p:spPr>
          <a:xfrm>
            <a:off x="147600" y="112680"/>
            <a:ext cx="31687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אליעזר קפלן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אישים-יוני נתניהו"/>
          <p:cNvPicPr/>
          <p:nvPr/>
        </p:nvPicPr>
        <p:blipFill>
          <a:blip r:embed="rId1"/>
          <a:stretch/>
        </p:blipFill>
        <p:spPr>
          <a:xfrm>
            <a:off x="11160" y="82440"/>
            <a:ext cx="7429320" cy="10574280"/>
          </a:xfrm>
          <a:prstGeom prst="rect">
            <a:avLst/>
          </a:prstGeom>
          <a:ln w="0">
            <a:noFill/>
          </a:ln>
        </p:spPr>
      </p:pic>
      <p:sp>
        <p:nvSpPr>
          <p:cNvPr id="67" name="WordArt 6"/>
          <p:cNvSpPr txBox="1"/>
          <p:nvPr/>
        </p:nvSpPr>
        <p:spPr>
          <a:xfrm>
            <a:off x="147600" y="112680"/>
            <a:ext cx="31687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יונתן נתניהו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אישים-דוד אלעזר"/>
          <p:cNvPicPr/>
          <p:nvPr/>
        </p:nvPicPr>
        <p:blipFill>
          <a:blip r:embed="rId1"/>
          <a:stretch/>
        </p:blipFill>
        <p:spPr>
          <a:xfrm>
            <a:off x="0" y="0"/>
            <a:ext cx="7448400" cy="10656720"/>
          </a:xfrm>
          <a:prstGeom prst="rect">
            <a:avLst/>
          </a:prstGeom>
          <a:ln w="0">
            <a:noFill/>
          </a:ln>
        </p:spPr>
      </p:pic>
      <p:sp>
        <p:nvSpPr>
          <p:cNvPr id="69" name="WordArt 6"/>
          <p:cNvSpPr txBox="1"/>
          <p:nvPr/>
        </p:nvSpPr>
        <p:spPr>
          <a:xfrm>
            <a:off x="4530600" y="71280"/>
            <a:ext cx="2887920" cy="4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דוד אלעזר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אישים-חנה סנש2"/>
          <p:cNvPicPr/>
          <p:nvPr/>
        </p:nvPicPr>
        <p:blipFill>
          <a:blip r:embed="rId1"/>
          <a:stretch/>
        </p:blipFill>
        <p:spPr>
          <a:xfrm>
            <a:off x="0" y="0"/>
            <a:ext cx="7489800" cy="1065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%D7%98%D7%93%D7%99_%D7%A7%D7%95%D7%9C%D7%A7"/>
          <p:cNvPicPr/>
          <p:nvPr/>
        </p:nvPicPr>
        <p:blipFill>
          <a:blip r:embed="rId1"/>
          <a:stretch/>
        </p:blipFill>
        <p:spPr>
          <a:xfrm>
            <a:off x="0" y="647640"/>
            <a:ext cx="7504200" cy="10009080"/>
          </a:xfrm>
          <a:prstGeom prst="rect">
            <a:avLst/>
          </a:prstGeom>
          <a:ln w="0">
            <a:noFill/>
          </a:ln>
        </p:spPr>
      </p:pic>
      <p:sp>
        <p:nvSpPr>
          <p:cNvPr id="45" name="WordArt 5"/>
          <p:cNvSpPr txBox="1"/>
          <p:nvPr/>
        </p:nvSpPr>
        <p:spPr>
          <a:xfrm>
            <a:off x="1081080" y="0"/>
            <a:ext cx="5111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טדי קולק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אישים-זלמן שזר 2"/>
          <p:cNvPicPr/>
          <p:nvPr/>
        </p:nvPicPr>
        <p:blipFill>
          <a:blip r:embed="rId1"/>
          <a:stretch/>
        </p:blipFill>
        <p:spPr>
          <a:xfrm>
            <a:off x="1117440" y="0"/>
            <a:ext cx="5256360" cy="7426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אישים-שטר זלמן שזר"/>
          <p:cNvPicPr/>
          <p:nvPr/>
        </p:nvPicPr>
        <p:blipFill>
          <a:blip r:embed="rId2"/>
          <a:stretch/>
        </p:blipFill>
        <p:spPr>
          <a:xfrm>
            <a:off x="1008000" y="7439040"/>
            <a:ext cx="5507280" cy="3217680"/>
          </a:xfrm>
          <a:prstGeom prst="rect">
            <a:avLst/>
          </a:prstGeom>
          <a:ln w="0">
            <a:noFill/>
          </a:ln>
        </p:spPr>
      </p:pic>
      <p:sp>
        <p:nvSpPr>
          <p:cNvPr id="48" name="WordArt 6"/>
          <p:cNvSpPr txBox="1"/>
          <p:nvPr/>
        </p:nvSpPr>
        <p:spPr>
          <a:xfrm>
            <a:off x="1838160" y="6264360"/>
            <a:ext cx="316872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זלמן שז"ר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אישים-לוי אשכול 2"/>
          <p:cNvPicPr/>
          <p:nvPr/>
        </p:nvPicPr>
        <p:blipFill>
          <a:blip r:embed="rId1"/>
          <a:stretch/>
        </p:blipFill>
        <p:spPr>
          <a:xfrm>
            <a:off x="1149480" y="0"/>
            <a:ext cx="5614920" cy="7888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P040a"/>
          <p:cNvPicPr/>
          <p:nvPr/>
        </p:nvPicPr>
        <p:blipFill>
          <a:blip r:embed="rId2"/>
          <a:stretch/>
        </p:blipFill>
        <p:spPr>
          <a:xfrm>
            <a:off x="1542960" y="7910640"/>
            <a:ext cx="4719600" cy="2746080"/>
          </a:xfrm>
          <a:prstGeom prst="rect">
            <a:avLst/>
          </a:prstGeom>
          <a:ln w="0">
            <a:noFill/>
          </a:ln>
        </p:spPr>
      </p:pic>
      <p:sp>
        <p:nvSpPr>
          <p:cNvPr id="51" name="WordArt 6"/>
          <p:cNvSpPr txBox="1"/>
          <p:nvPr/>
        </p:nvSpPr>
        <p:spPr>
          <a:xfrm>
            <a:off x="3240000" y="6856560"/>
            <a:ext cx="3168720" cy="84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לוי אשכול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Herzl"/>
          <p:cNvPicPr/>
          <p:nvPr/>
        </p:nvPicPr>
        <p:blipFill>
          <a:blip r:embed="rId1"/>
          <a:stretch/>
        </p:blipFill>
        <p:spPr>
          <a:xfrm>
            <a:off x="1047600" y="0"/>
            <a:ext cx="5450040" cy="784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P024a"/>
          <p:cNvPicPr/>
          <p:nvPr/>
        </p:nvPicPr>
        <p:blipFill>
          <a:blip r:embed="rId2"/>
          <a:stretch/>
        </p:blipFill>
        <p:spPr>
          <a:xfrm>
            <a:off x="992160" y="7737480"/>
            <a:ext cx="5543640" cy="2919240"/>
          </a:xfrm>
          <a:prstGeom prst="rect">
            <a:avLst/>
          </a:prstGeom>
          <a:ln w="0">
            <a:noFill/>
          </a:ln>
        </p:spPr>
      </p:pic>
      <p:sp>
        <p:nvSpPr>
          <p:cNvPr id="54" name="WordArt 6"/>
          <p:cNvSpPr txBox="1"/>
          <p:nvPr/>
        </p:nvSpPr>
        <p:spPr>
          <a:xfrm>
            <a:off x="0" y="0"/>
            <a:ext cx="266400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הרצל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rabin (2)"/>
          <p:cNvPicPr/>
          <p:nvPr/>
        </p:nvPicPr>
        <p:blipFill>
          <a:blip r:embed="rId1"/>
          <a:stretch/>
        </p:blipFill>
        <p:spPr>
          <a:xfrm>
            <a:off x="0" y="0"/>
            <a:ext cx="7489800" cy="10656720"/>
          </a:xfrm>
          <a:prstGeom prst="rect">
            <a:avLst/>
          </a:prstGeom>
          <a:ln w="0">
            <a:noFill/>
          </a:ln>
        </p:spPr>
      </p:pic>
      <p:sp>
        <p:nvSpPr>
          <p:cNvPr id="56" name="WordArt 5"/>
          <p:cNvSpPr txBox="1"/>
          <p:nvPr/>
        </p:nvSpPr>
        <p:spPr>
          <a:xfrm>
            <a:off x="4176720" y="9433080"/>
            <a:ext cx="3168720" cy="84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יצחק רבין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P034a"/>
          <p:cNvPicPr/>
          <p:nvPr/>
        </p:nvPicPr>
        <p:blipFill>
          <a:blip r:embed="rId1"/>
          <a:stretch/>
        </p:blipFill>
        <p:spPr>
          <a:xfrm>
            <a:off x="1386000" y="8182080"/>
            <a:ext cx="4887720" cy="2474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אישים-זאב ז'בוטינסקי2"/>
          <p:cNvPicPr/>
          <p:nvPr/>
        </p:nvPicPr>
        <p:blipFill>
          <a:blip r:embed="rId2"/>
          <a:stretch/>
        </p:blipFill>
        <p:spPr>
          <a:xfrm>
            <a:off x="1228680" y="42840"/>
            <a:ext cx="5149800" cy="8223120"/>
          </a:xfrm>
          <a:prstGeom prst="rect">
            <a:avLst/>
          </a:prstGeom>
          <a:ln w="0">
            <a:noFill/>
          </a:ln>
        </p:spPr>
      </p:pic>
      <p:sp>
        <p:nvSpPr>
          <p:cNvPr id="59" name="WordArt 6"/>
          <p:cNvSpPr txBox="1"/>
          <p:nvPr/>
        </p:nvSpPr>
        <p:spPr>
          <a:xfrm>
            <a:off x="3168720" y="7488360"/>
            <a:ext cx="31687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זאב ז'בוטינסקי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חיים הרצוג 3"/>
          <p:cNvPicPr/>
          <p:nvPr/>
        </p:nvPicPr>
        <p:blipFill>
          <a:blip r:embed="rId1"/>
          <a:stretch/>
        </p:blipFill>
        <p:spPr>
          <a:xfrm>
            <a:off x="0" y="0"/>
            <a:ext cx="7489800" cy="10656720"/>
          </a:xfrm>
          <a:prstGeom prst="rect">
            <a:avLst/>
          </a:prstGeom>
          <a:ln w="0">
            <a:noFill/>
          </a:ln>
        </p:spPr>
      </p:pic>
      <p:sp>
        <p:nvSpPr>
          <p:cNvPr id="61" name="WordArt 6"/>
          <p:cNvSpPr txBox="1"/>
          <p:nvPr/>
        </p:nvSpPr>
        <p:spPr>
          <a:xfrm>
            <a:off x="76320" y="10115640"/>
            <a:ext cx="31683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חיים הרצוג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Sprinzak_yosef"/>
          <p:cNvPicPr/>
          <p:nvPr/>
        </p:nvPicPr>
        <p:blipFill>
          <a:blip r:embed="rId1"/>
          <a:stretch/>
        </p:blipFill>
        <p:spPr>
          <a:xfrm>
            <a:off x="0" y="0"/>
            <a:ext cx="7489800" cy="10656720"/>
          </a:xfrm>
          <a:prstGeom prst="rect">
            <a:avLst/>
          </a:prstGeom>
          <a:ln w="0">
            <a:noFill/>
          </a:ln>
        </p:spPr>
      </p:pic>
      <p:sp>
        <p:nvSpPr>
          <p:cNvPr id="63" name="WordArt 6"/>
          <p:cNvSpPr txBox="1"/>
          <p:nvPr/>
        </p:nvSpPr>
        <p:spPr>
          <a:xfrm>
            <a:off x="147600" y="112680"/>
            <a:ext cx="31687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יוסף שפרינצק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07:05:00Z</dcterms:created>
  <dc:creator>אריה בר</dc:creator>
  <dc:description/>
  <dc:language>en-US</dc:language>
  <cp:lastModifiedBy>MATRIXBK</cp:lastModifiedBy>
  <dcterms:modified xsi:type="dcterms:W3CDTF">2011-01-18T06:55:08Z</dcterms:modified>
  <cp:revision>21</cp:revision>
  <dc:subject/>
  <dc:title>שקופית 1</dc:title>
</cp:coreProperties>
</file>